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1F3C-6B00-450E-9239-2E9B354F76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129E-9018-4D57-BB21-488CAE36D03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A0D3-38FA-412F-BD9B-DC257CF59BF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90CF-4B12-4349-B64F-D132088D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B56-11DF-450E-8C09-4ED3D273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22F-7EB0-4FFD-B566-5389A35C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766-C891-450B-BFD7-924771C0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BF30-8747-424F-9866-1B989CB0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7D87-BDC7-451A-A123-33DA5347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EBE9-9D2A-4313-9329-08EEEC87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FC41-8F0F-49FB-9D21-D7D17904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A8F0-CE21-4549-B21B-E6CF8297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BEDD-9A61-4488-A10D-6A177064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36AC-0965-4C5E-9E09-7C8852F4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AFF9-E3AA-4AE9-A7DD-34E4C05A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0131-9690-4EB3-8073-A29FC83B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4699-14B9-4724-8E91-2E479C32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07A8-038F-49B2-BE09-58F5536E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9A3A-0503-472F-8C76-C93717A6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04DD-79C7-4BA2-8E87-1EFC7078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C2E-1C00-433E-8707-FB5A1F19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A6E-005B-40A8-8761-D36E1B22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99F1-E574-4C40-8097-0F0F6C53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BFF-719D-46FC-B7CF-988A308A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1F9-8A20-47F4-B1F1-2E7E6E18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860-9BB7-454A-99E1-6E990526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685A-95BC-4A71-9082-CDB304F0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C9CE-EB5B-4273-8AFE-EE730549FF3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7946-1E47-4C8A-8F72-FD85F368B76B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Bookman Old Style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26-27 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января 20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10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 год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Участие в выставках и конференциях в 2009 году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35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Выставки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, всего – 7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Bookman Old Style"/>
              </a:rPr>
              <a:t>в том числе             - международные, </a:t>
            </a:r>
            <a:r>
              <a:rPr b="0" lang="en-US" sz="2000" spc="-1" strike="noStrike">
                <a:solidFill>
                  <a:srgbClr val="eaeaea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Экспонаты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, </a:t>
            </a:r>
            <a:r>
              <a:rPr b="1" lang="ru-RU" sz="2400" spc="-1" strike="noStrike">
                <a:solidFill>
                  <a:srgbClr val="eaeaea"/>
                </a:solidFill>
                <a:latin typeface="Bookman Old Style"/>
              </a:rPr>
              <a:t>представленные на выставках, </a:t>
            </a: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- 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18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Конференции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– 23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Bookman Old Style"/>
              </a:rPr>
              <a:t>в том числе             - на базе вуза, </a:t>
            </a:r>
            <a:r>
              <a:rPr b="0" lang="en-US" sz="2000" spc="-1" strike="noStrike">
                <a:solidFill>
                  <a:srgbClr val="eaeaea"/>
                </a:solidFill>
                <a:latin typeface="Bookman Old Style"/>
              </a:rPr>
              <a:t>9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Премии, дипломы, награды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- </a:t>
            </a:r>
            <a:r>
              <a:rPr b="1" lang="en-US" sz="2600" spc="-1" strike="noStrike">
                <a:solidFill>
                  <a:srgbClr val="eaeaea"/>
                </a:solidFill>
                <a:latin typeface="Bookman Old Style"/>
              </a:rPr>
              <a:t>6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Bookman Old Style"/>
              </a:rPr>
              <a:t>Издательская деятельность в 2009 году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050920" y="836640"/>
          <a:ext cx="5040360" cy="5695920"/>
        </p:xfrm>
        <a:graphic>
          <a:graphicData uri="http://schemas.openxmlformats.org/drawingml/2006/table">
            <a:tbl>
              <a:tblPr/>
              <a:tblGrid>
                <a:gridCol w="3745080"/>
                <a:gridCol w="12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онографии, 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зданные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российскими издательствами, из них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изд-вом «Высшая школа»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издательством вуз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борники научных трудов, 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международных научных конференций симпозиум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другие сборн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с грифом УМО и НМС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с грифом Минобрнауки Росс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с другими грифами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татьи, 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4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Учебные программы и методические указан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Bookman Old Style"/>
              </a:rPr>
              <a:t>Пленарное заседание</a:t>
            </a:r>
            <a:br>
              <a:rPr sz="1800"/>
            </a:b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6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января 20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10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г., Актовый зал РГГМУ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Вступительное слово, ректор, Л.Н. Карлин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Научная деятельность университета в 200</a:t>
            </a:r>
            <a:r>
              <a:rPr b="1" lang="en-US" sz="1400" spc="-1" strike="noStrike">
                <a:solidFill>
                  <a:srgbClr val="ccecff"/>
                </a:solidFill>
                <a:latin typeface="Bookman Old Style"/>
              </a:rPr>
              <a:t>9</a:t>
            </a: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 году»,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проректор по НР, В.Н. Воробьев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Проблемы системы управления качеством образования в ВУЗе», доц, Гагулина Н.Л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Комплексное управление прибрежными зонамии и национальная морская политика»,  </a:t>
            </a:r>
            <a:r>
              <a:rPr b="1" lang="ru-RU" sz="1400" spc="-1" strike="noStrike">
                <a:solidFill>
                  <a:srgbClr val="eaeaea"/>
                </a:solidFill>
                <a:latin typeface="Bookman Old Style"/>
              </a:rPr>
              <a:t>проф.</a:t>
            </a: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 Карлин Л.Н., Оганова С.А., проф. Плинк Н.Л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Об адекватности сценариев изменения клим ата: воспроизведение климатического режима </a:t>
            </a:r>
            <a:r>
              <a:rPr b="1" lang="en-US" sz="1400" spc="-1" strike="noStrike">
                <a:solidFill>
                  <a:srgbClr val="ccecff"/>
                </a:solidFill>
                <a:latin typeface="Bookman Old Style"/>
              </a:rPr>
              <a:t>XX</a:t>
            </a: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-го столетия современными климатическими моделями»,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проф.</a:t>
            </a:r>
            <a:r>
              <a:rPr b="1" lang="en-US" sz="1400" spc="-1" strike="noStrike">
                <a:solidFill>
                  <a:srgbClr val="ccecff"/>
                </a:solidFill>
                <a:latin typeface="Bookman Old Style"/>
              </a:rPr>
              <a:t> </a:t>
            </a: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Менжулин Г.В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Закономерности сезонной и многолетней изменчивости циркуляции атмосферы и океана в Северной Атлантике», проф. Воробьев В.Н., Дроздов В.В., проф. Смирнов Н.П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Вопросы информационного обеспечения геоэкологических исследований»,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проф. Шелутко В.А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Исследование обратных связей между изменениями газового состава и климата в тропосфере и стратосфере»,  проф.. Смышляев С.П.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Применение эмпирико-статистических методов для моделирования и анализа климатических изменений», проф. Лобанов В.А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Бухгалтерский и налоговый учет как информационная база управления природопользованием в экономике предприятий», проф. Фомина Л.Ф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755640" y="1700280"/>
            <a:ext cx="7632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Научная деятельность</a:t>
            </a:r>
            <a:r>
              <a:rPr b="1" lang="ru-RU" sz="3200" spc="-1" strike="noStrike">
                <a:solidFill>
                  <a:srgbClr val="ccecff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Российского государственного гидрометеорологического университе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в 2009 год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Bookman Old Style"/>
              </a:rPr>
              <a:t>Основные научные направления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РГГМ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68360" y="549360"/>
          <a:ext cx="8232840" cy="5775120"/>
        </p:xfrm>
        <a:graphic>
          <a:graphicData uri="http://schemas.openxmlformats.org/drawingml/2006/table">
            <a:tbl>
              <a:tblPr/>
              <a:tblGrid>
                <a:gridCol w="441000"/>
                <a:gridCol w="6535800"/>
                <a:gridCol w="1040760"/>
                <a:gridCol w="216000"/>
              </a:tblGrid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ИР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074080" cy="74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Сводные сведения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о выполнении НИР</a:t>
            </a:r>
            <a:br>
              <a:rPr sz="2600"/>
            </a:b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в 200</a:t>
            </a:r>
            <a:r>
              <a:rPr b="1" lang="en-US" sz="2600" spc="-1" strike="noStrike">
                <a:solidFill>
                  <a:srgbClr val="eaeaea"/>
                </a:solidFill>
                <a:latin typeface="Bookman Old Style"/>
              </a:rPr>
              <a:t>8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/200</a:t>
            </a:r>
            <a:r>
              <a:rPr b="1" lang="en-US" sz="2600" spc="-1" strike="noStrike">
                <a:solidFill>
                  <a:srgbClr val="eaeaea"/>
                </a:solidFill>
                <a:latin typeface="Bookman Old Style"/>
              </a:rPr>
              <a:t>9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году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drawingml/2006/table">
            <a:tbl>
              <a:tblPr/>
              <a:tblGrid>
                <a:gridCol w="684360"/>
                <a:gridCol w="4039920"/>
                <a:gridCol w="762120"/>
                <a:gridCol w="990720"/>
                <a:gridCol w="1218960"/>
                <a:gridCol w="1447920"/>
              </a:tblGrid>
              <a:tr h="381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ичество НИР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редства федерального бюджет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1 710,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0 861</a:t>
                      </a: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инистерство образования и науки РФ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2 811.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7 220.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1.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.ч.:     Федеральное Агентство по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  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разованию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3 578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0 333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1. 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  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едеральное Агентство по науке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  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 инновация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 233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887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892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447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Другие Министерств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006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 194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редства Субъектов Федерации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 428,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037,9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Хоздоговорные НИР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887,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3  941,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.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Зарубежные контракт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 631,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269.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.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обственные средства ВУЗ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154,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562,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1 812,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3 671,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AutoShape 448"/>
          <p:cNvSpPr/>
          <p:nvPr/>
        </p:nvSpPr>
        <p:spPr>
          <a:xfrm flipH="1">
            <a:off x="8998920" y="177336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AutoShape 451"/>
          <p:cNvSpPr/>
          <p:nvPr/>
        </p:nvSpPr>
        <p:spPr>
          <a:xfrm flipH="1">
            <a:off x="6300000" y="184464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AutoShape 453"/>
          <p:cNvSpPr/>
          <p:nvPr/>
        </p:nvSpPr>
        <p:spPr>
          <a:xfrm flipH="1">
            <a:off x="8997840" y="4581360"/>
            <a:ext cx="146160" cy="289080"/>
          </a:xfrm>
          <a:prstGeom prst="upArrow">
            <a:avLst>
              <a:gd name="adj1" fmla="val 50000"/>
              <a:gd name="adj2" fmla="val 49446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AutoShape 454"/>
          <p:cNvSpPr/>
          <p:nvPr/>
        </p:nvSpPr>
        <p:spPr>
          <a:xfrm flipH="1">
            <a:off x="8997840" y="6568920"/>
            <a:ext cx="146160" cy="289080"/>
          </a:xfrm>
          <a:prstGeom prst="upArrow">
            <a:avLst>
              <a:gd name="adj1" fmla="val 50000"/>
              <a:gd name="adj2" fmla="val 49446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AutoShape 456"/>
          <p:cNvSpPr/>
          <p:nvPr/>
        </p:nvSpPr>
        <p:spPr>
          <a:xfrm flipH="1">
            <a:off x="6300720" y="6568920"/>
            <a:ext cx="146160" cy="289080"/>
          </a:xfrm>
          <a:prstGeom prst="upArrow">
            <a:avLst>
              <a:gd name="adj1" fmla="val 50000"/>
              <a:gd name="adj2" fmla="val 49446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AutoShape 457"/>
          <p:cNvSpPr/>
          <p:nvPr/>
        </p:nvSpPr>
        <p:spPr>
          <a:xfrm>
            <a:off x="6300720" y="364500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AutoShape 458"/>
          <p:cNvSpPr/>
          <p:nvPr/>
        </p:nvSpPr>
        <p:spPr>
          <a:xfrm>
            <a:off x="9001080" y="414972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AutoShape 461"/>
          <p:cNvSpPr/>
          <p:nvPr/>
        </p:nvSpPr>
        <p:spPr>
          <a:xfrm flipH="1">
            <a:off x="8997840" y="6093000"/>
            <a:ext cx="146160" cy="288720"/>
          </a:xfrm>
          <a:prstGeom prst="upArrow">
            <a:avLst>
              <a:gd name="adj1" fmla="val 50000"/>
              <a:gd name="adj2" fmla="val 49384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AutoShape 475"/>
          <p:cNvSpPr/>
          <p:nvPr/>
        </p:nvSpPr>
        <p:spPr>
          <a:xfrm flipH="1">
            <a:off x="6300000" y="242100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AutoShape 476"/>
          <p:cNvSpPr/>
          <p:nvPr/>
        </p:nvSpPr>
        <p:spPr>
          <a:xfrm flipH="1">
            <a:off x="8998920" y="242100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AutoShape 482"/>
          <p:cNvSpPr/>
          <p:nvPr/>
        </p:nvSpPr>
        <p:spPr>
          <a:xfrm>
            <a:off x="6300720" y="414972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AutoShape 483"/>
          <p:cNvSpPr/>
          <p:nvPr/>
        </p:nvSpPr>
        <p:spPr>
          <a:xfrm flipH="1">
            <a:off x="6300000" y="299736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AutoShape 487"/>
          <p:cNvSpPr/>
          <p:nvPr/>
        </p:nvSpPr>
        <p:spPr>
          <a:xfrm flipH="1">
            <a:off x="8998920" y="299736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AutoShape 488"/>
          <p:cNvSpPr/>
          <p:nvPr/>
        </p:nvSpPr>
        <p:spPr>
          <a:xfrm>
            <a:off x="9001080" y="364500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AutoShape 492"/>
          <p:cNvSpPr/>
          <p:nvPr/>
        </p:nvSpPr>
        <p:spPr>
          <a:xfrm>
            <a:off x="6300720" y="501336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AutoShape 493"/>
          <p:cNvSpPr/>
          <p:nvPr/>
        </p:nvSpPr>
        <p:spPr>
          <a:xfrm>
            <a:off x="9001080" y="501336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AutoShape 496"/>
          <p:cNvSpPr/>
          <p:nvPr/>
        </p:nvSpPr>
        <p:spPr>
          <a:xfrm flipH="1">
            <a:off x="6300000" y="537372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AutoShape 497"/>
          <p:cNvSpPr/>
          <p:nvPr/>
        </p:nvSpPr>
        <p:spPr>
          <a:xfrm>
            <a:off x="6300720" y="573408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AutoShape 498"/>
          <p:cNvSpPr/>
          <p:nvPr/>
        </p:nvSpPr>
        <p:spPr>
          <a:xfrm flipH="1">
            <a:off x="8997840" y="5734080"/>
            <a:ext cx="146160" cy="288720"/>
          </a:xfrm>
          <a:prstGeom prst="upArrow">
            <a:avLst>
              <a:gd name="adj1" fmla="val 50000"/>
              <a:gd name="adj2" fmla="val 49384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AutoShape 499"/>
          <p:cNvSpPr/>
          <p:nvPr/>
        </p:nvSpPr>
        <p:spPr>
          <a:xfrm flipH="1">
            <a:off x="8997840" y="5373720"/>
            <a:ext cx="146160" cy="288720"/>
          </a:xfrm>
          <a:prstGeom prst="upArrow">
            <a:avLst>
              <a:gd name="adj1" fmla="val 50000"/>
              <a:gd name="adj2" fmla="val 49384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Bookman Old Style"/>
              </a:rPr>
              <a:t>Распределение тем </a:t>
            </a:r>
            <a:r>
              <a:rPr b="1" lang="ru-RU" sz="2000" spc="-1" strike="noStrike">
                <a:solidFill>
                  <a:srgbClr val="ff3300"/>
                </a:solidFill>
                <a:latin typeface="Bookman Old Style"/>
              </a:rPr>
              <a:t>по факультетам</a:t>
            </a:r>
            <a:r>
              <a:rPr b="1" lang="ru-RU" sz="2000" spc="-1" strike="noStrike">
                <a:solidFill>
                  <a:srgbClr val="eaeaea"/>
                </a:solidFill>
                <a:latin typeface="Bookman Old Style"/>
              </a:rPr>
              <a:t> в 2008 ― 2009 гг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4920" y="907920"/>
          <a:ext cx="9001080" cy="5875560"/>
        </p:xfrm>
        <a:graphic>
          <a:graphicData uri="http://schemas.openxmlformats.org/drawingml/2006/table">
            <a:tbl>
              <a:tblPr/>
              <a:tblGrid>
                <a:gridCol w="2736720"/>
                <a:gridCol w="1319400"/>
                <a:gridCol w="1525680"/>
                <a:gridCol w="1265040"/>
                <a:gridCol w="2154240"/>
              </a:tblGrid>
              <a:tr h="3556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8 год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9 год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687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697,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901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059,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93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7 681,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 573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309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64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4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оенная кафедра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195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294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9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3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427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.ч.: Морской институ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098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 21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ГЭ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 190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  775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1812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2 109.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AutoShape 986"/>
          <p:cNvSpPr/>
          <p:nvPr/>
        </p:nvSpPr>
        <p:spPr>
          <a:xfrm>
            <a:off x="8748720" y="206064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AutoShape 987"/>
          <p:cNvSpPr/>
          <p:nvPr/>
        </p:nvSpPr>
        <p:spPr>
          <a:xfrm>
            <a:off x="8748720" y="242100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AutoShape 988"/>
          <p:cNvSpPr/>
          <p:nvPr/>
        </p:nvSpPr>
        <p:spPr>
          <a:xfrm>
            <a:off x="8748720" y="278136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AutoShape 989"/>
          <p:cNvSpPr/>
          <p:nvPr/>
        </p:nvSpPr>
        <p:spPr>
          <a:xfrm>
            <a:off x="8748720" y="393372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AutoShape 990"/>
          <p:cNvSpPr/>
          <p:nvPr/>
        </p:nvSpPr>
        <p:spPr>
          <a:xfrm>
            <a:off x="8748720" y="450864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AutoShape 991"/>
          <p:cNvSpPr/>
          <p:nvPr/>
        </p:nvSpPr>
        <p:spPr>
          <a:xfrm>
            <a:off x="8748720" y="508464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AutoShape 994"/>
          <p:cNvSpPr/>
          <p:nvPr/>
        </p:nvSpPr>
        <p:spPr>
          <a:xfrm>
            <a:off x="8748720" y="32846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AutoShape 995"/>
          <p:cNvSpPr/>
          <p:nvPr/>
        </p:nvSpPr>
        <p:spPr>
          <a:xfrm>
            <a:off x="8748720" y="551664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AutoShape 998"/>
          <p:cNvSpPr/>
          <p:nvPr/>
        </p:nvSpPr>
        <p:spPr>
          <a:xfrm>
            <a:off x="8748720" y="6021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AutoShape 1004"/>
          <p:cNvSpPr/>
          <p:nvPr/>
        </p:nvSpPr>
        <p:spPr>
          <a:xfrm>
            <a:off x="8748720" y="638172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aeaea"/>
                </a:solidFill>
                <a:latin typeface="Bookman Old Style"/>
              </a:rPr>
              <a:t>Сведения по НИР за 2009 год </a:t>
            </a:r>
            <a:r>
              <a:rPr b="1" lang="ru-RU" sz="2200" spc="-1" strike="noStrike">
                <a:solidFill>
                  <a:srgbClr val="ff3300"/>
                </a:solidFill>
                <a:latin typeface="Bookman Old Style"/>
              </a:rPr>
              <a:t>(по факультетам РГГМУ)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34920" y="1125360"/>
          <a:ext cx="9074160" cy="5473800"/>
        </p:xfrm>
        <a:graphic>
          <a:graphicData uri="http://schemas.openxmlformats.org/drawingml/2006/table">
            <a:tbl>
              <a:tblPr/>
              <a:tblGrid>
                <a:gridCol w="1441440"/>
                <a:gridCol w="287280"/>
                <a:gridCol w="720720"/>
                <a:gridCol w="216000"/>
                <a:gridCol w="719280"/>
                <a:gridCol w="288720"/>
                <a:gridCol w="647640"/>
                <a:gridCol w="287280"/>
                <a:gridCol w="574920"/>
                <a:gridCol w="288720"/>
                <a:gridCol w="684360"/>
                <a:gridCol w="179280"/>
                <a:gridCol w="649440"/>
                <a:gridCol w="287280"/>
                <a:gridCol w="554040"/>
                <a:gridCol w="382680"/>
                <a:gridCol w="865080"/>
              </a:tblGrid>
              <a:tr h="86364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Федеральное Агентство по образованию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Федеральное Агентство по науке и инновациям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егиональные программы (Санкт-Петербург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арубеж</a:t>
                      </a:r>
                      <a:r>
                        <a:rPr b="0" lang="en-US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ые гранты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421.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5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031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9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14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697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059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059,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593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 0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592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264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39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280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7681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 923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8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06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309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4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оенная кафедра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 294,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924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6734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845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77,9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17,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286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 0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 474,1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3427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 т.ч.:   Морской институт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21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 21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ГЭИ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918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 845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2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92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775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0333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887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37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447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941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194,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269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2109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1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560" y="272520"/>
            <a:ext cx="8569080" cy="924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ведения о НИР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в 2009 году (часть 1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79280" y="1700280"/>
          <a:ext cx="8785440" cy="4718160"/>
        </p:xfrm>
        <a:graphic>
          <a:graphicData uri="http://schemas.openxmlformats.org/drawingml/2006/table">
            <a:tbl>
              <a:tblPr/>
              <a:tblGrid>
                <a:gridCol w="2448000"/>
                <a:gridCol w="3097080"/>
                <a:gridCol w="1368720"/>
                <a:gridCol w="1871640"/>
              </a:tblGrid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0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ДАКЗ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32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етеорологических прогнозов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 195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Ф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7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КО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кеан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614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УПЗ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 05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ПО и ОП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7 198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.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ЮНЕСК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348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И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470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4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физики и гидропрогноз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 064,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логии суш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 994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метр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еодезии и гидроге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ведения о НИР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в 2009 году (часть 2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9280" y="712800"/>
          <a:ext cx="8785440" cy="6154560"/>
        </p:xfrm>
        <a:graphic>
          <a:graphicData uri="http://schemas.openxmlformats.org/drawingml/2006/table">
            <a:tbl>
              <a:tblPr/>
              <a:tblGrid>
                <a:gridCol w="2346480"/>
                <a:gridCol w="3125880"/>
                <a:gridCol w="1309680"/>
                <a:gridCol w="200340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Прикладной эк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36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из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атемат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423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Химии природной сред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15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ки и менеджмент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ки предприятия и учетных систе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4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оциально-гуманитарных наук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Прикладной информат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ностранных язык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вязей с общественностью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оенная кафедр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294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ИС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3 427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.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.ч.: Морской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 21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ГЭ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 775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.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2 109,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Васильев Роман</cp:lastModifiedBy>
  <dcterms:modified xsi:type="dcterms:W3CDTF">2010-01-29T16:24:43Z</dcterms:modified>
  <cp:revision>402</cp:revision>
  <dc:subject/>
  <dc:title>Итоговая сессия Ученого совета РГГМУ</dc:title>
</cp:coreProperties>
</file>